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5222-C7A9-46B4-9C5F-FF795F4E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ED3-3865-415F-A24E-9A6E16BC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01D-7A98-4776-AD35-544EC9F6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D53-5AFC-4AC2-AB50-6A5E416B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F3C8-F81E-4319-B473-61B127BF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FB7-7474-4CCD-BD06-026659B7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10C2-08EC-4CD8-8E13-2394AF68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6DD-214A-4C51-A390-EBDD812A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C2B2-CAD5-4191-9AF6-1E74A2FB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AA7-7FF8-45D6-AD56-07B69E91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F03-6E56-4A47-AA21-98CA9A17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416-3845-4D1F-865D-C0EAB04A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AF42-CEDE-47B9-9121-C7065C7B40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lex sentenc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targets this term are to extend our sentences to give more information to the re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PE00014_"/>
          <p:cNvPicPr/>
          <p:nvPr/>
        </p:nvPicPr>
        <p:blipFill>
          <a:blip r:embed="rId1"/>
          <a:stretch/>
        </p:blipFill>
        <p:spPr>
          <a:xfrm>
            <a:off x="1371600" y="990720"/>
            <a:ext cx="181440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end these sentences using: 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l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nc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ough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he cat sat on the mat.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is is a simple sent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at sat on the ma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at he could curl up and go to sle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at sat on the ma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hil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he was waiting for his t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weather was cold out side the cat always sat on the mat in front of the f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at sat on the ma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inc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t was the warmest place in the ro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hough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cat was really hungry for its tea it sat patiently on the m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im:  Use the following words to give more information about someone or something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os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ch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at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irl walked into the classroom. 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is is a simple sent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irl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ho had long red hai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walked swiftly into the classro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irl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hose red hair sparkled as the light caught i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walked slowly and confidently into the classro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irl walked into the classroom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hich by now was filled with childre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irl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ho was now feeling extremely nervou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walked steadily into the classroom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hich by now was filled with peopl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ho were busily getting ready for the start of the 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y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irl walked into the classroom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ha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had been allocated to her on arrival at the school earlier this mor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 more information about someone or something using words like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os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ich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at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your WAIBS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irl walked into the classroom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A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girl, with flaming red hair and freckles on her nose, walked into the classroom, all heads turned to stare at 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irl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ho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s feeling very nervous by now, walked into the classroom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although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he really felt like bolting out of the do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inc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is was her first day at her new school, the girl thrust back her shoulders confidently and walked into the classroom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which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y now was packed with childr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09:07:16Z</dcterms:created>
  <dc:creator>Home</dc:creator>
  <dc:description/>
  <dc:language>en-US</dc:language>
  <cp:lastModifiedBy>08741039</cp:lastModifiedBy>
  <dcterms:modified xsi:type="dcterms:W3CDTF">2009-07-14T23:48:11Z</dcterms:modified>
  <cp:revision>2</cp:revision>
  <dc:subject/>
  <dc:title>Complex sentences </dc:title>
</cp:coreProperties>
</file>